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DA2-A37A-4C64-B682-7944207C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8FF-CD7A-4C12-A7D3-98200FF2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F47-1D89-481E-82BE-D00BDEE6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F6E-24AA-4805-935F-9A380BFA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1EC-7F79-4095-9689-E1D49B6A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F15-28B4-4E7A-97B6-52E43694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0E6-7BD4-4CB0-8E94-E5980F3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A0F-F728-4B09-89CA-9B4F7393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0F3-774C-4A61-81CB-045B9D9B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E03-8BB0-4DE4-AC00-5A28E98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587-EDF4-4C7C-BCC9-14E000EE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C9C-A9F3-438B-B686-17BE525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89B0-4B9E-4A84-89F0-4A05FF48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1295280" cy="2228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1523880" cy="131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3200" y="4724280"/>
            <a:ext cx="1790640" cy="12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666880" y="3276720"/>
            <a:ext cx="1752840" cy="11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0" y="3886200"/>
            <a:ext cx="1828800" cy="168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0" y="7010280"/>
            <a:ext cx="175248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438280" y="7442280"/>
            <a:ext cx="1981440" cy="10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4952880" y="6400800"/>
            <a:ext cx="162396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0" y="1066680"/>
            <a:ext cx="20574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1828800" cy="131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23960" cy="24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00600" y="838080"/>
            <a:ext cx="1893960" cy="1757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90920" y="3352680"/>
            <a:ext cx="174312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4280" y="3352680"/>
            <a:ext cx="1593720" cy="240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514600" y="533520"/>
            <a:ext cx="1857240" cy="222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2895480" y="6284880"/>
            <a:ext cx="1609920" cy="2533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228600" y="6629400"/>
            <a:ext cx="19810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3008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19520" y="0"/>
            <a:ext cx="114768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029200" y="533520"/>
            <a:ext cx="1557360" cy="1833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3962520"/>
            <a:ext cx="1828800" cy="1400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666880" y="3606840"/>
            <a:ext cx="871560" cy="210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505320" y="3352680"/>
          <a:ext cx="1011240" cy="247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3352680"/>
                    <a:ext cx="101124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2-03T19:46:26Z</dcterms:modified>
  <cp:revision>10</cp:revision>
  <dc:subject/>
  <dc:title>Slide 1</dc:title>
</cp:coreProperties>
</file>